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9AE-23FB-4898-B79F-36B1D2C7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0FC-C9FC-48B2-A18C-05ACCCD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127-C528-422E-83D0-0B247AAB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F286-9207-4032-83DB-1392F78C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E9B-4FD0-4084-BF4A-23508221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65DE-6E43-4630-84DB-0442E0E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F8D4-4C75-4705-B16E-5C4584B3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E51A-64B4-4A95-8DF2-14D6AACC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DF3B-0734-4F45-87AB-F0E7B449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9B8B-5AA7-4217-AF9B-2D11A14C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FE1-82FE-46D7-AED2-8A89428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5BAD-A9AE-4AA6-9D23-2CA59F2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4323-5A88-4837-8821-A111334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8961-3710-428B-ACE7-7253A72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EF97-0297-41A5-BFE1-A5A6517D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24AB-E7D5-4496-8187-7A3D91CA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F967-7983-4C84-818C-5EB629DC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7A2A-1C64-430B-A43A-9EB4CCF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EDB1-F7DA-4F3F-8AB1-A541CEDE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576A-62F4-4DD2-9DF3-88BFA434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9CC3F-89CB-4ABB-8B85-DFF180C4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D06D-C215-4CFB-A963-63AF7089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A41-E6E5-4D1A-8589-570950AD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86BAA-6CD5-4941-BE8E-ACD086A3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6266-A6C4-48B5-AEC1-97941AE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68CA5-BD13-4666-9610-6474DDF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EA50-FB41-44AA-AB82-31388913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0958-F1D5-4970-BACB-9B8B734B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2BD20-FB30-40A9-85F4-CF5E92F3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8AD2-D359-4EB2-9FB2-547DD162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E0E6-05CF-45AA-BDEB-CF312015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D7DD-3F2B-48DF-85FF-82E239F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C8BB2-85F6-4982-8D1B-C80D90C7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6973-CAE7-4646-905D-6DC4A5E2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DFCC-BC51-4379-90D1-FA55336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A6C35-0CE4-45FC-8481-6122B661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54159-0034-4A1C-B6C8-52B5D665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5A08-5F9A-41B0-BA79-D900D4AC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1D0C8-D50C-4C20-A456-FB3564D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68CF8-3958-4EFC-A188-499F70B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01282-B9BF-412A-B78E-C0ED5414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DA335-158D-4493-A66D-A8EEFA17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0DD39-6D33-4699-B5C3-F2C897FD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5E2-842A-47C3-85B9-FD2032DB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B60-1423-40D6-8F60-F7C24ABC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7CD-D9E3-4011-980E-4D5AD65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EBA9-3A07-404A-8C7E-13FD354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FA2-2340-42E1-87E1-0C3A0AC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CA14-BB7C-4845-8E38-EA7CA58938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0bc96"/>
                </a:gs>
                <a:gs pos="100000">
                  <a:srgbClr val="b4af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4af80"/>
                </a:gs>
                <a:gs pos="100000">
                  <a:srgbClr val="c0bc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27f4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27f4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EC4-7A23-4BB4-92FE-B577962CAAD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257D-9FFE-40E7-8B2D-B055C2AFF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20AD-39D3-46C3-8CD6-EA0E03D25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af80"/>
            </a:gs>
            <a:gs pos="50000">
              <a:srgbClr val="c8c6a2"/>
            </a:gs>
            <a:gs pos="100000">
              <a:srgbClr val="b4af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87280" y="836640"/>
            <a:ext cx="7201080" cy="49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Нарком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СПИ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Глобальные данные об эпидемии СПИДа</a:t>
            </a:r>
            <a:br>
              <a:rPr sz="28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Из доклада «Объединенной программы ООН по ВИЧ/СПИДу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Количество людей, живущих с ВИЧ, в 2006 г. было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Всего – 39,5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Взрослых – 37,2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Детей моложе 15 лет – 2,3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Количество людей, заразившихся ВИЧ в 2006 г.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Всего – 4,3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Взрослых – 3,8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Детей моложе 15 лет – 530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Количество смертей от СПИДа в 2006 г.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Всего – 2,9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Взрослых – 2,6 мл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Детей моложе 15 лет – 38000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В России с начала эпидемии было зарегистрировано 355000 случаев ВИЧ-инфекции. Однако официальные данные учитывают тех людей, которые имели непосредственный контакт с российской системой регистрации. Действительное число людей оценивается гораздо выше – от 560 тыс. до 1,6 млн. Большинство из них – молодые люди: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возраст 80 % составляет 15 – 30 л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Пути заражения ВИЧ-инфекци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7040" y="2004480"/>
            <a:ext cx="792972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оловым путем – 70-8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Инъекционные наркотики – 5-1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От беременной или кормящей матери ребенку – 5-1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ереливание зараженной крови – 3-5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Профессиональное заражение медработников – менее 0,01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В России, по данным Российского научно-методического центра по профилактике и борьбе со СПИДом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преобладает путь заражения через инъекционное введение наркот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Других путей передачи ВИЧ нет!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Поэтому во всех ситуациях, представляющих какой-либо риск, каждый человек может защитить себя и близк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11280" y="836640"/>
            <a:ext cx="792144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Миф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наркотика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ф № 1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64208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отреблять наркотики (например, легкие) безопас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ф № 2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72700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потребление наркотиков престижно, это помогает попасть в круг избран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ф № 3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792520"/>
            <a:ext cx="822960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котики способствуют творчеств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ф № 4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727000"/>
            <a:ext cx="822960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ногие пробовали наркотики, а потом броса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ф № 5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9271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ркотик помогает снять напряжение, расслабиться, улучшить настро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ф № 6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857320"/>
            <a:ext cx="8229600" cy="32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Я всегда буду знать меру. В любой момент могу броси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2835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Царица грозная, Чума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Теперь идет на нас сама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И льстится жатвою богата;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И к нам в окошко день и ночь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Стучит могильною лопатой…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Что делать нам? И чем помочь?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Gungsuh"/>
                <a:ea typeface="Gungsuh"/>
              </a:rPr>
              <a:t>          </a:t>
            </a:r>
            <a:r>
              <a:rPr b="0" lang="en-US" sz="2400" spc="-1" strike="noStrike">
                <a:solidFill>
                  <a:srgbClr val="660066"/>
                </a:solidFill>
                <a:latin typeface="Gungsuh"/>
                <a:ea typeface="Gungsuh"/>
              </a:rPr>
              <a:t>А.С. Пушкин. Пир во время чумы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3:47:18Z</dcterms:created>
  <dc:creator>Сергей</dc:creator>
  <dc:description/>
  <dc:language>en-US</dc:language>
  <cp:lastModifiedBy>Customer</cp:lastModifiedBy>
  <dcterms:modified xsi:type="dcterms:W3CDTF">2012-03-22T13:42:08Z</dcterms:modified>
  <cp:revision>5</cp:revision>
  <dc:subject/>
  <dc:title>Слайд 1</dc:title>
</cp:coreProperties>
</file>